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2B63-9BCE-422B-A709-55752DF9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8553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336560"/>
            <a:ext cx="8553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BA06-E99B-4AF5-9171-D08AF056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0793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3365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3365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8446-BF7C-475D-B033-14097305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2754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4640" y="2079360"/>
            <a:ext cx="2754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520" y="2079360"/>
            <a:ext cx="2754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336560"/>
            <a:ext cx="2754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4640" y="4336560"/>
            <a:ext cx="2754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520" y="4336560"/>
            <a:ext cx="2754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3414-76D5-489F-BDB0-29576F26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079360"/>
            <a:ext cx="8553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BC2-F34B-4226-88A7-F00FFF70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8553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1079-B274-4A3C-82DD-87B44DA6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4173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079360"/>
            <a:ext cx="4173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FC6-040A-42A8-913A-57545A81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C78-2AF8-444A-8A85-2A839438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39720"/>
            <a:ext cx="85536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BDF-1A42-420E-9B08-C6E3D0CD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079360"/>
            <a:ext cx="4173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3365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A771-7E13-4A6B-8EBB-6514FBD3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4173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0793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3365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4819-4E9E-4010-93DF-2D458722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0793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336560"/>
            <a:ext cx="8553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9701-FE81-43E5-8EED-636297D3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079360"/>
            <a:ext cx="8553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040" y="6561000"/>
            <a:ext cx="20955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8360" y="6561000"/>
            <a:ext cx="31816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10080" y="6561000"/>
            <a:ext cx="20955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FC1F-9D25-48C3-B494-DE28B8549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92480" y="0"/>
            <a:ext cx="552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แผนภูมิแสดง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ความเช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ื่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อมโยงแผนป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ฏิ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บัติราชการ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ประจำปี 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พ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ศ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.2553 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ของกรมสนับสนุนบริการสุขภา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49120"/>
            <a:ext cx="730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ประเด็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นโยบา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รัฐบา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97200" y="360360"/>
            <a:ext cx="2509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3.3 </a:t>
            </a: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นโยบายด้านสาธารณสุ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879480"/>
            <a:ext cx="565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ประเด็นนโยบายย่อยของรัฐบา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95440"/>
            <a:ext cx="565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</a:rPr>
              <a:t>เป้าประ สงค์เชิงนโยบายรัฐบา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21200" y="792000"/>
            <a:ext cx="187344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gsana New"/>
              </a:rPr>
              <a:t>3.3.3 </a:t>
            </a:r>
            <a:r>
              <a:rPr b="0" lang="hi-IN" sz="900" spc="-1" strike="noStrike">
                <a:solidFill>
                  <a:srgbClr val="000000"/>
                </a:solidFill>
                <a:latin typeface="Angsana New"/>
              </a:rPr>
              <a:t>ปรับปรุงระบบบริการด้านสาธารณสุข โดยลงทุนพัฒนาระบบบริการสุขภาพของภาครัฐในทุกระดับให้ได้มาตรฐาน ยกระดับสถานีอนามัยเป็นโรงพยาบาลส่งเสริมสุขภาพประจำตำบล และพัฒนาระบบเครือข่ายการส่งต่อในทุกระดับให้มีประสิทธิภาพ เชื่อมโยงกันทั้งในภาครัฐและภาคเอกชน เพื่อให้ระบบหลักประกันสุขภาพมีคุณภาพอย่างเพียงพอ ทั่วถึง มีทางเลือกหลากหลายรูปแบบ และครอบคลุมได้ถึงการรักษาพยาบาลในสถานพยาบาลเอกชนที่เข้าร่วมโครงกา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16120" y="2521080"/>
            <a:ext cx="1657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gsana New"/>
              </a:rPr>
              <a:t>2.</a:t>
            </a:r>
            <a:r>
              <a:rPr b="0" lang="hi-IN" sz="900" spc="-1" strike="noStrike">
                <a:solidFill>
                  <a:srgbClr val="000000"/>
                </a:solidFill>
                <a:latin typeface="Angsana New"/>
              </a:rPr>
              <a:t>ประชาชนมีสุขภาพอนามัยดี มีพฤติกรรมสุขภาพเหมาะสม สามารถควบคุม และลดปัจจัยเสี่ยงต่อโรคเรื้อรัง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1560" y="5113440"/>
            <a:ext cx="273672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5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ประชาชนมีพฤติกรรมสุขภาพที่ถูกต้อง สามารถลดภาวะโรค ภัยคุกคามและความรุนแรงด้านสุขภาพ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35800" y="720720"/>
            <a:ext cx="1093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8728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1200" y="72072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69200" y="792000"/>
            <a:ext cx="1728720" cy="160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เร่งรัดการแก้ไขปัญหายาเสพติดอย่างเป็นระบบครบวงจรทั้งด้านการป้องกัน การปราบปราม การบำบัดรักษาการพื้นฟูสมรรถภาพผู้ติดยาเสพติด ควบคู่กับการปรับปรุงกฎหมายให้สอดคล้องกับสถานการณ์และมีการบังคับใช้กฎหมายโดยเคร่งครัด รวมทั้งขยายความร่วมมือกับประเทศเพื่อนบ้านและนานาชาติ ในการแก้ไขปัญหายาเสพติด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08480" y="5113440"/>
            <a:ext cx="259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3.</a:t>
            </a: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ประชาชนสามารถเข้าถึงหลักประกันสุขภาพได้รับบริการ และบริโภคผลิตภัณฑ์สุขภาพที่มีคุณภาพมาตรฐานอย่างทั่วถึงและเป็นธรร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13920" y="2521080"/>
            <a:ext cx="1512720" cy="7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3.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สังคมเข้มแข็งมีความปลอดภัยและมีภูมิคุ้มกันยาเสพติด มีระบบป้องกันมิให้กลุ่มเสี่ยงเป็นเหยื่อของยาเสพติด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33520" y="287280"/>
            <a:ext cx="31680" cy="691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44800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480" y="316872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058400" y="0"/>
            <a:ext cx="0" cy="720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20760"/>
            <a:ext cx="0" cy="688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39760"/>
            <a:ext cx="0" cy="696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720108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81200" y="23763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279000" y="71280"/>
            <a:ext cx="62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rdia New"/>
                <a:ea typeface="Cordia New"/>
              </a:rPr>
              <a:t>20 </a:t>
            </a:r>
            <a:r>
              <a:rPr b="1" lang="hi-IN" sz="800" spc="-1" strike="noStrike">
                <a:solidFill>
                  <a:srgbClr val="000000"/>
                </a:solidFill>
                <a:latin typeface="Cordia New"/>
                <a:cs typeface="Cordia New"/>
              </a:rPr>
              <a:t>มี</a:t>
            </a:r>
            <a:r>
              <a:rPr b="1" lang="en-US" sz="800" spc="-1" strike="noStrike">
                <a:solidFill>
                  <a:srgbClr val="000000"/>
                </a:solidFill>
                <a:latin typeface="Cordia New"/>
                <a:ea typeface="Cordia New"/>
              </a:rPr>
              <a:t>.</a:t>
            </a:r>
            <a:r>
              <a:rPr b="1" lang="hi-IN" sz="800" spc="-1" strike="noStrike">
                <a:solidFill>
                  <a:srgbClr val="000000"/>
                </a:solidFill>
                <a:latin typeface="Cordia New"/>
                <a:cs typeface="Cordia New"/>
              </a:rPr>
              <a:t>ค</a:t>
            </a:r>
            <a:r>
              <a:rPr b="1" lang="en-US" sz="800" spc="-1" strike="noStrike">
                <a:solidFill>
                  <a:srgbClr val="000000"/>
                </a:solidFill>
                <a:latin typeface="Cordia New"/>
                <a:ea typeface="Cordia New"/>
              </a:rPr>
              <a:t>.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60840" y="4032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480" y="417672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5960" y="5778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84240" y="6264360"/>
            <a:ext cx="70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ยุทธศาสตร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กระทรว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92160" y="3257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84240" y="4133880"/>
            <a:ext cx="6858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ประเด็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ยุท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ศาสตร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กระทรว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49920" y="4321080"/>
            <a:ext cx="30956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การพัฒนาระบบสุขภาพที่มีคุณภา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73560" y="3887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77200" y="403236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32840" y="2016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85200" y="6480000"/>
            <a:ext cx="0" cy="7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89560" y="1881360"/>
            <a:ext cx="86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05560" y="64818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41920" y="2232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04036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8480" y="4321080"/>
            <a:ext cx="3095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การเสริมสร้างให้คนในสังคมไทยมีสุขภาพและจิตสำนึกที่ดีด้านสุขภาพ โดยการมีส่วนร่วมจากทุกภาคส่ว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6480" y="5977080"/>
            <a:ext cx="1656000" cy="7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6.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เสริมสร้างปัจจัยพื้นฐานของการมีพฤติกรรมสุขภาพที่ถูกต้อง และพัฒนาประสิทธิภาพเครือข่ายระบบเฝ้าระวัง การป้องกันการควบคุมโรคและภัยสุข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6840" y="6840360"/>
            <a:ext cx="0" cy="3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00480" y="6480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05560" y="5761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50280" y="3095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00120" y="57610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73200" y="30956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85200" y="4896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00480" y="5761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73560" y="424800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05560" y="4896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5200" y="61927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6840" y="4824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16120" y="4248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52840" y="4248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00120" y="5761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36840" y="559764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16120" y="41054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84840" y="576108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83236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89920" y="4753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77200" y="360360"/>
            <a:ext cx="25099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3.5 </a:t>
            </a: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นโยบายสวัสดิการสังคม และความมั่นคงของมนุษย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120" y="838080"/>
            <a:ext cx="22320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gsana New"/>
              </a:rPr>
              <a:t>3.3.1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สนับสนุนการดำเนินการตามแนวทางของกฎหมายสุขภาพแห่งชาติ โดยเร่งดำเนินมาตรการสร้างเสริมสุขภาพและลดปัจจัยเสี่ยงที่มีผลต่อสุขภาพและการเจ็บป่วยเรื้อรัง โดยประสานความร่วมมือและการมีส่วนร่วมจากภาคี พัฒนาในสาขาต่างๆ ตลอดจนภาคเอกชน องค์กรปกครองส่วนท้องถิ่น ชุมชน และอาสาสมัครสาธารณสุข ร่วมสร้างความรู้ ความเข้าใจ สร้างแรงจูงใจ รณรงค์ให้เกิดการพัฒนาและปรับปรุงเปลี่ยนพฤติกรรมสุขภาพอนามัย รวมทั้งส่งเสริมบทบาทองค์กรปกครองส่วนท้องถิ่นให้มีส่วนร่วมในการผลิตและพัฒนาบุคลการทางการแพทย์และสาธารณสุข โดยจัดสรรทุนให้เพื่อกลับมาทำงานในท้องถิ่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92840" y="2521080"/>
            <a:ext cx="1655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gsana New"/>
              </a:rPr>
              <a:t>1.</a:t>
            </a:r>
            <a:r>
              <a:rPr b="0" lang="hi-IN" sz="900" spc="-1" strike="noStrike">
                <a:solidFill>
                  <a:srgbClr val="000000"/>
                </a:solidFill>
                <a:latin typeface="Angsana New"/>
              </a:rPr>
              <a:t>ประชาชนมีหลักประกันสุขภาพอย่างครอบคลุม มีคุณภาพ และเข้าถึงบริการได้อย่างไม่เป็นอุปสรร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313080"/>
            <a:ext cx="565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กลยุทธ์</a:t>
            </a: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วิธีการรัฐบา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5200" y="3211560"/>
            <a:ext cx="2305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ให้มีการรณรงค์สร้างความรู้ ความเข้าใจแก่ประชาชนเกี่ยวกับปัจจัยเสี่ยงที่มีผลต่อสุขภาพ และการปรับเปลี่ยนพฤติกรรมสุขภาพ ควบคู่กับการสร้างความร่วมมือในการสนับสนุนการสร้างเสริมสุขภาพของชุมชนและท้องถิ่น รวมทั้งสนับสนุนการผลิตบุคลากรทางการแพทย์และสาธารณสุขที่สอดคล้องกับความต้องการของพื้นที่โดยองค์กรปกครองส่วนท้องถิ่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41560" y="3220920"/>
            <a:ext cx="1366920" cy="105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พัฒนาระบบการเฝ้าระวัง ป้องกัน และควบคุมโรค รวมทั้งภัยสุขภาพและความเข้มแข็งของอาสาสมัครสาธารณสุขและเครือข่าย การเฝ้าระวังวินิจฉัยดูแลสุขภาพและภั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81560" y="3220920"/>
            <a:ext cx="1800000" cy="7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พัฒนาระบบบริการสุขภาพของภาครัฐให้มีคุณภาพมาตรฐาน และเชื่อมโยงในทุกระดับ โดยเฉพาะการเสริมสร้างศักยภาพและยกระดับบริการปฐมภูมิให้มีคุณ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53200" y="3220920"/>
            <a:ext cx="2232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พัฒนาระบบเครือข่ายการส่งต่อให้มีความเชื่อมโยงกันในทุกระดับบริการสุขภาพ ทั้งในสถานบริการสุขภาพภาครัฐและภาคเอกชน ตลอดจนการพัฒนาระบบการดำเนินงานบริการการแพทย์ฉุกเฉินให้ครบวงจรอย่างมีประสิทธิภาพ รวมทั้งเฝ้าระวังผลกระทบจากวิกฤติเศรษฐกิจที่ส่งผลต่อสุขภาพของผู้ตกงา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58280" y="3240000"/>
            <a:ext cx="1368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ป้องกันมิให้กลุ่มเสี่ยงเป็นเหยื่อยาเสพติด และส่งเสริมการบำบัดรักษาและฟื้นฟูสมรรถภาพผู้ติดยาเสพติดโดยใช้กระบวนการมีส่วนร่วมของชุมช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81200" y="302436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73200" y="3095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60840" y="3095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05560" y="4248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41920" y="302436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60840" y="3095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05560" y="4032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84240" y="5040360"/>
            <a:ext cx="708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เป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ประสงค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กระทรว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16840" y="5113440"/>
            <a:ext cx="259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2. </a:t>
            </a: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ประชาชน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ผู้เสพและผู้ติดยาเสพติดได้รับการบำบัดรักษา ฟื้นฟู เฝ้าระวัง ควบคุมการใช้วัตถุเสพติด เพื่อสามารถดำเนินชีวิตได้ตามปกติในสังค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05560" y="48960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6840" y="5977080"/>
            <a:ext cx="1655640" cy="7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7.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ส่งเสริมและพัฒนาศักยภาพของอาสาสมัครและภาคีเครือข่ายในการดำเนินกิจกรรมด้านสุขภาพ โดยการมีส่วนร่วมจากทุกภาคส่ว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84840" y="5977080"/>
            <a:ext cx="1655640" cy="7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4.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พัฒนาระบบบริการทางการแพทย์ สาธารณสุข และผลิตภัณฑ์สุขภาพ ให้มีคุณภาพมาตรฐาน สร้างความมั่นใจกับประชาช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560" y="5977080"/>
            <a:ext cx="1655640" cy="7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2.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เสริมสร้างระบบเฝ้าระวัง ควบคุม ป้องกัน บำบัดรักษา และฟื้นฟูสภาพของประชาชน ผู้เสพและผู้ติดยาเสพติด ให้มีประสิทธิภาพและยั่งยื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85200" y="5761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00120" y="6624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00120" y="6840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33560" y="72072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33560" y="720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97200" y="360360"/>
            <a:ext cx="2509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3.3 </a:t>
            </a: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นโยบายด้านสาธารณสุ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65560" y="647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97560" y="7207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32840" y="647640"/>
            <a:ext cx="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60840" y="3095640"/>
            <a:ext cx="20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84480" y="838080"/>
            <a:ext cx="2232000" cy="105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gsana New"/>
              </a:rPr>
              <a:t>3.3.2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สร้างขีดความสามารถในการเฝ้าระวังป้องกัน ควบคุมโรค วินิจฉัย และดูแลรักษาพยาบาลอย่างเป็นระบบ เชื่อมโยงกับทุกภาคส่วน ทุกสาชาที่เกี่ยวช้อง เพื่อป้องกันปัญหาการป่วยและตายด้วยโรคอุบัติใหม่ที่รวมถึงโรคที่มีการกลายพันธุ์เป็นสายพันธ์ใหม่ และโรคระบาดซ้ำในคนอย่างต่อสถานการณ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92840" y="2521080"/>
            <a:ext cx="1655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ngsana New"/>
              </a:rPr>
              <a:t>1.</a:t>
            </a:r>
            <a:r>
              <a:rPr b="0" lang="hi-IN" sz="900" spc="-1" strike="noStrike">
                <a:solidFill>
                  <a:srgbClr val="000000"/>
                </a:solidFill>
                <a:latin typeface="Angsana New"/>
              </a:rPr>
              <a:t>ประชาชนมีหลักประกันสุขภาพอย่างครอบคลุม มีคุณภาพ และเข้าถึงบริการได้อย่างไม่เป็นอุปสรร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60840" y="3095640"/>
            <a:ext cx="20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00120" y="237636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65560" y="1584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00120" y="2305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65560" y="720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360360"/>
            <a:ext cx="781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ประเด็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ยุท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ศาสตร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กร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60" y="1297080"/>
            <a:ext cx="50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</a:rPr>
              <a:t>เป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</a:rPr>
              <a:t>ปร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</a:rPr>
              <a:t>สงค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</a:rPr>
              <a:t>กร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8480" y="431640"/>
            <a:ext cx="259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</a:rPr>
              <a:t>เสริมสร้างการมีส่วนร่วมในการพัฒนาพฤติกรรมสุขภาพของประชาช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68840" y="431640"/>
            <a:ext cx="1800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ngsana New"/>
              </a:rPr>
              <a:t>คุ้มครองผู้บริโภคด้านบริการสุขภา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77200" y="431640"/>
            <a:ext cx="2016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</a:rPr>
              <a:t>เสริมสร้างความมั่นคงของชีวิตและสังค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837560" y="1368360"/>
            <a:ext cx="15112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ระบบรายงาน ระบบติดตามและเฝ้าระวังปัญหายาเสพติ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23200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57200" y="1152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6840" y="1008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20840" y="5040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708120" y="1368360"/>
            <a:ext cx="129528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ประชาชนมีความรู้ที่จำเป็นและพฤติกรรมที่ถูกต้องในการดูแลสุขภา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6480" y="2448000"/>
            <a:ext cx="935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Angsana New"/>
              </a:rPr>
              <a:t>เสริมสร้างจิตสำนึก ความรู้ และทักษะที่จำเป็นแก่ประชาชนให้มีพฤติกรรมสุขภาพที่เหมาะส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08840" y="1368360"/>
            <a:ext cx="12240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2.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ผู้บริโภคมีความรู้ความเข้าใจในการใช้บริการสุขภา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948840" y="1368360"/>
            <a:ext cx="1800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1.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สถานบริการสุขภาพ ภาครัฐ เอกชนและสถานประกอบการธุรกิจบริการสุขภาพมีคุณภาพมาตรฐา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1368360"/>
            <a:ext cx="151128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2.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อาสาสมัครสาธารณสุขประจำหมู่บ้าน ภาคีเครือข่ายมีส่วนร่วมในการจัดการสุขภาพชุมช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5200" y="0"/>
            <a:ext cx="0" cy="720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22400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05560" y="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85200" y="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57200" y="1152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84480" y="1152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05560" y="1008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41920" y="1152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41920" y="1152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0280" y="1152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57920" y="1152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65560" y="2160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85200" y="1008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94680" y="2305080"/>
            <a:ext cx="72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</a:rPr>
              <a:t>กลยุทธ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</a:rPr>
              <a:t>กร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04840" y="2448000"/>
            <a:ext cx="1224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ngsana New"/>
              </a:rPr>
              <a:t>ส่งเสริมสนับสนุนองค์กร อาสาสมัครสาธารณสุขประจำหมู่บ้าน องค์กรปกครองส่วนท้องถิ่น และภาคเครือข่ายในการดำเนินกิจกรรมด้านสุข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2448000"/>
            <a:ext cx="100800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ngsana New"/>
              </a:rPr>
              <a:t>2.</a:t>
            </a:r>
            <a:r>
              <a:rPr b="1" lang="hi-IN" sz="900" spc="-1" strike="noStrike">
                <a:solidFill>
                  <a:srgbClr val="000000"/>
                </a:solidFill>
                <a:latin typeface="Angsana New"/>
              </a:rPr>
              <a:t>พัฒนาองค์ความรู้ด้านระบบบริการสุข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44840" y="2448000"/>
            <a:ext cx="1440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ngsana New"/>
              </a:rPr>
              <a:t>1.</a:t>
            </a:r>
            <a:r>
              <a:rPr b="1" lang="hi-IN" sz="900" spc="-1" strike="noStrike">
                <a:solidFill>
                  <a:srgbClr val="000000"/>
                </a:solidFill>
                <a:latin typeface="Angsana New"/>
              </a:rPr>
              <a:t>ส่งเสริม สนับสนุน พัฒนา และควบคุมกำกับระบบบริการสุขภาพให้ได้คุณภาพมาตรฐา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068480" y="2016000"/>
            <a:ext cx="288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652480" y="2016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8480" y="3240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41920" y="2016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65560" y="2160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05560" y="2160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69200" y="2448000"/>
            <a:ext cx="1225440" cy="7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ngsana New"/>
              </a:rPr>
              <a:t>ส่งเสริมความรู้ความเข้าใจในการให้บริการสุขภาพระหว่างผู้ให้และผู้รับบริการสุข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197920" y="2448000"/>
            <a:ext cx="1225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ngsana New"/>
              </a:rPr>
              <a:t>ส่งเสริมพัฒนาระบบรายงาน ระบบติดตาม และเฝ้าระวังปัญหา ยาเสพติด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8472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600360"/>
            <a:ext cx="63648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โคร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การ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ordiaUPC"/>
              </a:rPr>
              <a:t>/</a:t>
            </a: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ผลผลิต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ordiaUPC"/>
              </a:rPr>
              <a:t>/</a:t>
            </a:r>
            <a:r>
              <a:rPr b="1" lang="hi-IN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กิจ กรรม กร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65560" y="2160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13200" y="3456000"/>
            <a:ext cx="23763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Times New Roman"/>
              </a:rPr>
              <a:t>ผลผลิตที่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ngsana New"/>
                <a:ea typeface="宋体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th-TH" sz="900" spc="-1" strike="noStrike">
                <a:solidFill>
                  <a:srgbClr val="000000"/>
                </a:solidFill>
                <a:latin typeface="Times New Roman"/>
              </a:rPr>
              <a:t>ผลงานการส่งเสริม พัฒนา สนับสนุน ประสาน ควบคุม กำกับ คุณภาพมาตรฐานบริการสุข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imes New Roman"/>
              </a:rPr>
              <a:t>กิจกรรมที่</a:t>
            </a:r>
            <a:r>
              <a:rPr b="1" lang="th-TH" sz="9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th-TH" sz="900" spc="-1" strike="noStrike">
                <a:solidFill>
                  <a:srgbClr val="000000"/>
                </a:solidFill>
                <a:latin typeface="Times New Roman"/>
              </a:rPr>
              <a:t>ส่งเสริม พัฒนา ควบคุม กำกับคุณภาพมาตรฐานบริการสุขภาพในสถานบริการสุขภาพภาครั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imes New Roman"/>
              </a:rPr>
              <a:t>กิจกรรมที่</a:t>
            </a:r>
            <a:r>
              <a:rPr b="1" lang="th-TH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th-TH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imes New Roman"/>
              </a:rPr>
              <a:t>ส่งเสริม พัฒนา ควบคุม กำกับสถานบริการสุขภาพภาครัฐให้ได้คุณภาพตามมาตรฐานงานสุขศึกษา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imes New Roman"/>
              </a:rPr>
              <a:t>กิจกรรมที่ </a:t>
            </a:r>
            <a:r>
              <a:rPr b="1" lang="th-TH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th-TH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imes New Roman"/>
              </a:rPr>
              <a:t>ส่งเสริม สนับสนุน พัฒนา และควบคุมกำกับคุณภาพมาตรฐานด้านอาคารสถานที่ในสถานบริการสุขภาพภาครัฐทุกระดับ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imes New Roman"/>
              </a:rPr>
              <a:t>กิจกรรมที่ </a:t>
            </a:r>
            <a:r>
              <a:rPr b="1" lang="th-TH" sz="9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th-TH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imes New Roman"/>
              </a:rPr>
              <a:t>ส่งเสริม สนับสนุน และพัฒนาคุณภาพมาตรฐานด้านวิศวกรรมการแพทย์ในสถานบริการสุขภาพภาครัฐ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imes New Roman"/>
              </a:rPr>
              <a:t>กิจกรรม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ที่ </a:t>
            </a:r>
            <a:r>
              <a:rPr b="1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5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Times New Roman"/>
              </a:rPr>
              <a:t>ส่งเสริม พัฒนา ควบคุม กำกับสถานบริการสุขภาพภาคเอกชนให้มีคุณภาพมาตรฐานตามที่กฎหมายกำหนด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กิจกรรมที่ </a:t>
            </a:r>
            <a:r>
              <a:rPr b="1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6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ส่งเสริม พัฒนาควบคุม กำกับ การประกอบโรคศิลปะให้มีคุณภาพมาตรฐานตามที่กฎหมายกำหนด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กิจกรรมที่ </a:t>
            </a:r>
            <a:r>
              <a:rPr b="1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7</a:t>
            </a:r>
            <a:r>
              <a:rPr b="0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ส่งเสริม สนับสนุน พัฒนา และกำกับธุรกิจบริการสุขภาพให้มีคุณภาพมาตรฐา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กิจกรรมที่ </a:t>
            </a:r>
            <a:r>
              <a:rPr b="1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8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การพัฒนาให้ประเทศไทยเป็นศูนย์กลางสุขภาพระดับนานาชาติ พ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ศ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2552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 – </a:t>
            </a:r>
            <a:r>
              <a:rPr b="0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2556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Flagship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โครงการลงทุนพัฒนาระบบบริการสาธารณสุขตามโครงการลงทุนขนาดใหญ่ของภาครัฐ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Mega Project) (Flagship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กิจกรรม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การพัฒนาบริการตติยภูมิ ศูนย์โรคหัวใจ ศูนย์โรคมะเร็ง และเครือข่ายควบคุมการบาดเจ็บแห่งชาติ พ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ศ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2551-2554  (Mega Proj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65560" y="2952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33920" y="3456000"/>
            <a:ext cx="12240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ผลผลิต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2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ผลงานการวิจัย พัฒนาองค์ความรู้และเทคโนโลยีด้านระบบบริการสุขภาพ สุขศึกษา และสุขภาพภาคประชาช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กิจกรรม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 ศึกษาวิเคราะห์ วิจัย พัฒนารูปแบบ เพื่อพัฒนาองค์ความรู้และเทคโนโลยีด้านระบบบริการสุขภาพ สุขศึกษา และสุขภาพภาคประชาช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05560" y="280836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73920" y="3456000"/>
            <a:ext cx="936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ผลผลิต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3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ผลงานการส่งเสริมคุ้มครองด้านบริการสุข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กิจกรรม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ส่งเสริมการคุ้มครองด้านบริการสุข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45200" y="2952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84840" y="2016000"/>
            <a:ext cx="432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58280" y="1800360"/>
            <a:ext cx="287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5200" y="3456000"/>
            <a:ext cx="1152360" cy="160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ผลผลิตที่ </a:t>
            </a:r>
            <a:r>
              <a:rPr b="1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4</a:t>
            </a:r>
            <a:r>
              <a:rPr b="0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ประชาชนและประชาชนกลุ่มเป้าหมายได้รับการถ่ายทอดความรู้ด้านสุขภาพเพื่อนำไปสู่การปรับเปลี่ยนพฤติกรรมสุข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กิจกรรม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 ถ่ายทอดความรู้ด้านสุขภาพสู่ประชาชนกลุ่มเป้าหมา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89200" y="3456000"/>
            <a:ext cx="1152360" cy="379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ผลผลิตที่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ngsana New"/>
                <a:ea typeface="宋体"/>
              </a:rPr>
              <a:t>5</a:t>
            </a:r>
            <a:r>
              <a:rPr b="1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องค์กรอาสาสมัครสาธารณสุขประจำหมู่บ้านองค์กรปกครองส่วนท้องถิ่น ภาคีเครือข่ายได้รับการส่งเสริมและสนับสนุนให้มีกิจกรรมด้านสุข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กิจกรรม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 ส่งเสริมและสนับสนุนภาคีเครือข่ายในการจัดกิจกรรมสุขภาพ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โครงการที่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ngsana New"/>
                <a:ea typeface="宋体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พัฒนาศักยภาพอาสาสมัครสาธารณสุขประจำหมู่บ้าน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อสม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.)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ในการเฝ้าระวังโรคและดูแลผู้ป่วยในชุมชน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Flagship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โครงการที่ </a:t>
            </a:r>
            <a:r>
              <a:rPr b="0" lang="th-TH" sz="900" spc="-1" strike="noStrike" u="sng">
                <a:solidFill>
                  <a:srgbClr val="000000"/>
                </a:solidFill>
                <a:uFillTx/>
                <a:latin typeface="Angsana New"/>
                <a:ea typeface="宋体"/>
              </a:rPr>
              <a:t>2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โครงการพัฒนาศักยภาพอาสาสมัครสาธารณสุข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อสม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en-US" sz="900" spc="-1" strike="noStrike">
                <a:solidFill>
                  <a:srgbClr val="000000"/>
                </a:solidFill>
                <a:latin typeface="Angsana New"/>
                <a:ea typeface="宋体"/>
              </a:rPr>
              <a:t>)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宋体"/>
              </a:rPr>
              <a:t>ในการป้องกันโรคที่เป็นภัยคุกคาม 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ea typeface="宋体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宋体"/>
              </a:rPr>
              <a:t>ไข้หวัดนก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ea typeface="宋体"/>
              </a:rPr>
              <a:t>/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cs typeface="宋体"/>
              </a:rPr>
              <a:t>ไข้หวัดใหญ่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  <a:ea typeface="宋体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08120" y="3240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197920" y="3456000"/>
            <a:ext cx="1439640" cy="13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ผลผลิตที่ </a:t>
            </a:r>
            <a:r>
              <a:rPr b="1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6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</a:rPr>
              <a:t>ระบบรายงานระบบติดตาม และเฝ้าระวังปัญหายาเสพติดได้รับการปรับปรุงและพัฒนาเพื่อให้ได้ข้อมูลที่มีคุณภาพมาตรฐา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 u="sng">
                <a:solidFill>
                  <a:srgbClr val="000000"/>
                </a:solidFill>
                <a:uFillTx/>
                <a:latin typeface="Angsana New"/>
              </a:rPr>
              <a:t>กิจกรรม</a:t>
            </a:r>
            <a:r>
              <a:rPr b="0" lang="th-TH" sz="900" spc="-1" strike="noStrike">
                <a:solidFill>
                  <a:srgbClr val="000000"/>
                </a:solidFill>
                <a:latin typeface="Angsana New"/>
              </a:rPr>
              <a:t> พัฒนาระบบรายงาน ระบบติดตาม และเฝ้าระวังปัญหายาเสพติด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16840" y="2952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058400" y="0"/>
            <a:ext cx="0" cy="720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0" cy="720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720108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720108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936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13200" y="59515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6624720"/>
            <a:ext cx="647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- 130 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02:31:49Z</dcterms:created>
  <dc:creator>suchada</dc:creator>
  <dc:description/>
  <dc:language>en-US</dc:language>
  <cp:lastModifiedBy>Microsoft</cp:lastModifiedBy>
  <dcterms:modified xsi:type="dcterms:W3CDTF">2009-11-13T02:44:09Z</dcterms:modified>
  <cp:revision>172</cp:revision>
  <dc:subject/>
  <dc:title>PowerPoint Presentation</dc:title>
</cp:coreProperties>
</file>